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8F2A-F431-449C-B569-533E6D4E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8D9C-FCF4-4D5F-9DB1-E000F770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50D8-4FDF-4280-8631-F18DE3FA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DC83-42DF-4759-91BA-C65A44C6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470C-AC80-4288-A1B6-263886F5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14C1-80D3-4B21-851F-048D63C1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9B5A-E22E-4DE1-8FAC-5F8F3927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5DA3-2E27-4E8C-820B-09B15E32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374-4928-4230-AD18-AF1AFA5D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B9F3-B2EF-45B6-9E48-7FD0FF0E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3E5D-33AA-4055-9AB3-2E246D83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C315-1CDE-496C-AC7A-E0314008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72B5-5797-44FF-A2D6-0EB6096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3544-ABBE-48FF-BA25-A44A936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ABF2-8341-408E-97AB-E534708E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22AB-3D58-4F5E-8A8C-4CF25A3D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56B1-60A1-4E6C-BB0C-BAACBE70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821B-F3E9-4695-89FA-53779F4B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6410-3D0C-40B1-901B-A2AA2AA8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3F2A-545C-492E-B0A0-5EBE698A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9A60-05B5-41F0-9A80-A90FF303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E130-7738-4EF5-82BD-792A1E1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ECE8-1617-45EB-8E17-0864EF6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C1AF-E0FC-4B49-B889-3DEB9377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242D-1542-4C40-9E8A-48CDC55AA74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9BB9-F475-4E57-8F3E-B87A2E25E63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916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6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606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Неверство, махни се далече от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чувствам Го близо - Исуса блажен! При Него прибягвам в най-бурния час, [:щом в кораба Той е, не се боя аз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Защо да роптая, кога съм в бе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оскъдност, гонение и нищет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мен Той пострада, немил на света, [:защо да не страдам и аз за Христа?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И пътят ми бурен и тежък да е, по-мъчен от пътя Христов той не е! Той не е ли с мене в почивка и тру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Как да се съмнявам в блажений изход?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1422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 Мен всичко съдейства сега за добр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нищо не може в конец да е зло! Накрай аз ще свърша неволята зла [:със новата песен в победна хвала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46:20Z</dcterms:modified>
  <cp:revision>96</cp:revision>
  <dc:subject/>
  <dc:title>Slide 1</dc:title>
</cp:coreProperties>
</file>